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02D-6D05-46DF-AA5F-748C549E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198-F391-4B8B-8A08-5EA9AF95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9AD-980F-4DBB-A0A4-D2F3A280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59A-C10C-47AD-B7C0-B9056C04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79B-3B78-40D0-9B6D-F3A1E2FC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0EC-5E85-4C2E-8433-D60D1AC4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CD6-B105-4C42-9A86-AB224AAF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DD1-EF47-4F66-AB8C-A6CE1704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0A05-235C-4DF7-BB07-6CAC3D3F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001-5C6D-4EFE-8E36-9948670D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C69-A2D0-42E2-B1A2-7FCA03C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72B-E389-4C30-AC4D-4FB6ECCE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5A17-53C6-48EC-AFD1-69B13B3DE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toriesfromtheweb.org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311328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ize, Maximize, and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428840"/>
            <a:ext cx="7238880" cy="542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543800" y="1295280"/>
            <a:ext cx="685800" cy="38124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ww.poissonrouge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go?  Log Off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n this web address:</a:t>
            </a:r>
            <a:br>
              <a:rPr sz="2800"/>
            </a:b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oriesfromtheweb.or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lick on the blue and purple pla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12192120" cy="9144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8800" y="4495680"/>
            <a:ext cx="3276720" cy="2362320"/>
          </a:xfrm>
          <a:prstGeom prst="ellipse">
            <a:avLst/>
          </a:prstGeom>
          <a:noFill/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419360" y="2057400"/>
            <a:ext cx="2438280" cy="2590920"/>
          </a:xfrm>
          <a:prstGeom prst="line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2120" y="53341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ait for a minute while the computer bo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529240" cy="293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342900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209680"/>
            <a:ext cx="2133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600200" y="373392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ype in “rocke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56272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“rocket”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5094000" y="4354200"/>
            <a:ext cx="315720" cy="1360440"/>
          </a:xfrm>
          <a:custGeom>
            <a:avLst/>
            <a:gdLst/>
            <a:ahLst/>
            <a:rect l="l" t="t" r="r" b="b"/>
            <a:pathLst>
              <a:path w="199" h="857">
                <a:moveTo>
                  <a:pt x="7" y="41"/>
                </a:moveTo>
                <a:lnTo>
                  <a:pt x="0" y="0"/>
                </a:lnTo>
                <a:lnTo>
                  <a:pt x="199" y="85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56386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n click O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 to th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95480" y="23623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is icon to go to the world wide web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579132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will open a web browser called Internet Explor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page will look like thi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80028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stuff to k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 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1371600"/>
            <a:ext cx="4800600" cy="22860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” butt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is after you’ve typed in your web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54296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43600" y="1676520"/>
            <a:ext cx="304920" cy="30456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nd 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7467480" cy="5600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38080" y="1371600"/>
            <a:ext cx="609840" cy="380880"/>
          </a:xfrm>
          <a:prstGeom prst="rect">
            <a:avLst/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28:05Z</dcterms:created>
  <dc:creator>Franklin High School</dc:creator>
  <dc:description/>
  <dc:language>en-US</dc:language>
  <cp:lastModifiedBy>Franklin High School</cp:lastModifiedBy>
  <dcterms:modified xsi:type="dcterms:W3CDTF">2008-04-28T19:38:02Z</dcterms:modified>
  <cp:revision>5</cp:revision>
  <dc:subject/>
  <dc:title>Computer Basics</dc:title>
</cp:coreProperties>
</file>